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52C-9B9F-4D7D-AA65-E8F5505C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1B5-450C-44B6-9488-1E738768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92A9-ADDC-4E12-A99E-DDC4506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5EB7-44FD-4CDD-B607-15D57EE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402B0-32AD-44A7-9971-6A2191F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D372-5AEE-4A97-A504-711B43D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D2241-3EBA-435E-801D-A8F38C5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42FA9-AE66-4152-9F7A-C3D5A0C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40A98-1AA2-436F-9E7A-37863F5E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8BF30-A0F5-44E7-926E-E5060D47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A2C2E-1942-464A-A91C-71D0CE8A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A4622-90E3-45AD-A67A-984668C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24F-C1FA-4A4C-9278-BCD83E2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92DA-D64A-40C3-924E-C3F51AD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86E12-8859-40B3-AFBD-340FF3B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8C575-E7D5-4DC8-B8B5-6B9EB9AB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45138-9631-4436-AAEC-7DF6CF4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310E7-2AE3-4527-BD10-A00F1EA3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63AE-C1C4-4941-AF43-ADF9D49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562B0-7CDA-4A7F-9977-6950ED1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7B02C-9B72-4E7E-9E6C-8D14949F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329BC-8D0C-45A0-A3F4-350D0B4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1FA2E-808B-42F9-BE1F-77361CA9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F15-3014-45AF-9B8C-9A99521F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05BB4-A175-4A2E-862B-A1602A7C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2CA8-9530-4191-B731-B581CC66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FF91-FD0B-490F-ACF7-DC08C0B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59DA2-BA94-4346-86EB-5D0DF04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17A0C-CCD1-44C4-8B44-46AAD1A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D7302-2286-4B76-892B-8B8F511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63408-3441-4625-976E-275022FC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E397-E9DE-441A-BCF3-80416FDD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AC36-848E-4B8D-B4CF-3D7DE8F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C8EEB-3FBC-4948-A3BE-1509AFF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37AC-E114-44D4-AA2A-D4DF487E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5AD6-0216-4283-812B-93D825D2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A07B-017D-4EF7-85C0-AF5F232C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17CC-623A-492B-B25F-72D8629B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C6B10-6DB6-42E4-9914-0040B3C8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4472-BEEC-4C66-90DC-E8133567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A99E1-58E3-4F30-802F-49E7E4A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D42DE-DEAF-4F2C-898D-62B52BF1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F5F29-3251-4914-9C06-F4A22D5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22F55-1FBE-45A1-B204-3FEFC04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B9D35-606A-444C-A432-304E6C6F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310-2FDA-4BEC-89CF-86D89641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1095D-CCC9-433E-AF1A-36E7424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21E4D-B2BD-4C3F-A8F7-52C98C7D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B9434-8F67-40E7-BA61-FE3FC616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C4C0C-E365-49D0-80AE-8F6D4B4E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08E82-C076-4D64-A048-8B19004C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55A8-2623-43FF-858D-1E74942B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373-9FDC-4FD3-92DD-01F26E2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F553-FD6A-42DF-A81B-5A7D2062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A94-EDC2-4141-97E0-BB1A982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E8B-794A-48B8-AB10-56EE052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3AF-963F-469F-8360-5AB15984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5EA6-B79F-417C-B8A7-6B2D7F09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1108-6E09-4CB4-8EA7-C1FADE9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269-DAC2-472A-A379-4E536BEE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383-8657-4CF1-AD6B-A5013041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82A-5E6E-4447-A5F4-B9513D2A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5219-B791-490A-BBB8-58BD0BC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450C-B66B-48D2-9C71-B3429A7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6E3C-8295-4855-9505-28E8AA44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6DE5-C3CF-493A-9BEC-FB4B0993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E29F-0768-43B8-A062-559AB33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711-BC4A-49A8-AB3E-EC47DB6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30CF-A7CE-4BE5-9A20-0D8F8A2C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56F1-67D4-4548-A244-C9B8A98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7333-3369-43DF-B33C-F30EEE55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C16F-F947-4EE2-B3FE-E1593BB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F7E6-FEBE-436F-9BF1-E060615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2BFA-8870-488A-BC0D-03BB629C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ECA2-BD58-4934-85BC-FEA0BCE5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EAEC-A412-4B54-A7E5-D955644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CCAB-314A-481D-82A6-F743CB96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D51A-1F42-4423-B918-1601100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76E-C6E3-4908-A640-753AEB6F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DBE6-80E8-4CC1-8982-479DA3E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86F5-26FE-45E3-84D0-028EC1C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3704-5F9D-4491-BC8B-68DC89B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7AC0-AF9C-4FE6-941B-75C54B6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C271-568D-4FFC-8833-15498D8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D8CA-B0C9-4132-BCFC-B4C49473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7CCB-25EF-4208-9AE4-30762C0D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0CD9-6956-46AA-BE63-BBF4A0D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7829-6F75-4087-85FE-9C550A2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266B-FAC3-4CE0-9CEF-70DC84E4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D0B-DCDE-4B1A-A85C-1000F08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BB21-4A12-4194-B1D9-5E3B8B18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D24F-A7E1-4501-ADD4-EFF6381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2217-F976-47AF-9A85-B2852A6D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ED86-0CC2-4F3D-8709-9489843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5ABE-8F5A-401E-82C6-3D53A40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2DDB-88AF-4842-9569-9054739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7E9C-0F1E-4A66-BAFF-66B24C4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FF7C-5C1A-4503-8FA7-002458D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BEEA-D3F2-4A79-955B-CD78A65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C215A-14AC-49E1-9D82-8FFBA8EC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EC-563F-4C5D-BF7F-3567BDE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E060-0853-4A0B-874B-385919C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10C5-5595-4D39-B81F-6793E25F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49E9-F0F4-4C03-8E10-F098B5B5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CE49-74CC-4D69-B0F6-F5CEDE0F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7364-0F24-411E-B75F-831CF502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0F1C-DE9C-4F4C-BE9B-F7B4520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9FAC-6AE8-4F9A-9C38-F2227F2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41A08-4DBE-44BC-8830-69D9910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DD43-9088-4DFE-8580-0E819F8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A498-30CE-4C06-8CF5-9867A23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0FA-42CE-40BA-9ECA-2AB3F75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366D-2446-4395-BE5C-502CD39A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7F3C5-276A-4501-B623-3F420D0C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66F00-09B5-4412-9E2E-50AB8263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7EE3-3FA1-4967-BDD0-2857BF00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AB002-DB46-49A8-9BA5-112719B7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9E8C-7EB9-4DAB-B994-E86D8B0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A5DD-1124-4026-AE16-3ACF271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42CB-513E-4CAA-BAE9-309CDDA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D80A5-1096-42AE-BA1F-85A71C0B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E8EA-C97B-4823-9AA2-A8A1AD8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D13-2437-4185-AF43-A91A654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E2F20-35FF-4F04-B6E5-424F378B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AF0C4-0487-4FFA-A6F1-F87F5F61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AC49-0397-484C-8BC0-681CDF8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094A-99B0-4DB4-9ACF-DE29AAD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6D91-FE00-4CF7-9E90-F95013CC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12CE4-708D-4342-8072-77B85498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F405E-CC05-4685-81C7-609F9C1D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723D-7FC9-41BA-B164-CD32C5B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D1444-D8A1-494E-9F46-5AD91B19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C553-95AA-4849-BD11-EFF7D66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947-0828-49D7-9CBA-DEE22BF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93E3-4AA7-4314-835E-05E1AED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E5226-BAFF-4A1B-BD9C-7E1D410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F3C7-0509-4DB0-B314-BC6187F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48912-51E1-4B15-85C3-981F323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8406-8AA4-4D10-A08B-51A3E5E6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95FF-7DAC-45D3-A30A-18CB58E5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7A9B-4AEC-431F-80B1-C0671B9F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84AE0-29E7-42D6-943F-E0543EA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0A581-D3F4-4B47-9B8E-E44265A8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3A689-6955-4EB3-84CC-F19F40D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B55-7CED-4D30-B98B-6CB53B66940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Page </a:t>
            </a:r>
            <a:r>
              <a:rPr b="0" lang="en-US" sz="1000" spc="-1" strike="noStrike">
                <a:solidFill>
                  <a:srgbClr val="073e87"/>
                </a:solidFill>
                <a:latin typeface="MS UI Gothic"/>
              </a:rPr>
              <a:t></a:t>
            </a: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 </a:t>
            </a:r>
            <a:fld id="{8B4122D2-7A2F-4497-A1B8-2DBC3FDB859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044-AD40-4FD4-8F75-24CFC49E3C76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49A-9088-444D-9FBD-4C42B52E1E2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BBB-F181-4208-91FB-7A3408C4DD9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164B-8410-44B4-8F20-FBE2A318939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C68D-FD42-4E2C-8CF9-02ECB78A3DE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587-9BE4-4F8A-BAAB-3C11DC40AFA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A869-32CF-4CE4-AFC8-A991CD03678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7BE-8485-4825-B833-93C7583B501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EC10-9365-4DD0-9582-B9D61547BCA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27D4-1148-462C-9569-1D67A2AF093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87A-C971-45CC-8961-C620C5D06EE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347A-8335-4706-8125-E7B71796301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48FB-9D10-448B-99B1-E46A8F1EC85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F491-8F10-49E9-9992-8C70073C6E0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B40D-2749-45FE-8672-D3D713E5C0D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1EC-8DD4-45F0-9682-52BE4CDABD0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611-726A-44D2-A165-36FD40BFC84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557-26EB-4B5C-B5DF-89311C38B25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C02-8C8A-4E3B-8B94-C8E52FB908E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A74-39C6-4D74-BA56-39F5223C2D8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3266-C3DB-43CA-8551-7148700E287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3714-1FD8-49AD-B72D-1B10FE3D8C6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2101680" y="3251160"/>
            <a:ext cx="61153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994120" y="4132440"/>
            <a:ext cx="25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17600" y="309708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6"/>
          <p:cNvSpPr/>
          <p:nvPr/>
        </p:nvSpPr>
        <p:spPr>
          <a:xfrm>
            <a:off x="417600" y="3952800"/>
            <a:ext cx="793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427120" y="4691160"/>
            <a:ext cx="44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2"/>
          <p:cNvSpPr/>
          <p:nvPr/>
        </p:nvSpPr>
        <p:spPr>
          <a:xfrm>
            <a:off x="817560" y="495360"/>
            <a:ext cx="7924680" cy="1041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e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Discuss the questions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1158840" y="2082960"/>
            <a:ext cx="6753240" cy="3462120"/>
          </a:xfrm>
          <a:prstGeom prst="flowChartDocument">
            <a:avLst/>
          </a:prstGeom>
          <a:solidFill>
            <a:srgbClr val="ccffcc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What do you think of after-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ivities?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What should you do to relax?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746280" y="314280"/>
            <a:ext cx="7534080" cy="2158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31b6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a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magazine interviewed som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out after-school classes fo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the opinions below and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s on your own opinions.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338040" y="2681280"/>
            <a:ext cx="82756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Why should children take after-school cla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" After-school classes can help kids get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good universit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" I want my child to be a successful perso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" It's good for children to start learning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young ag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593640" y="6660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2093760" y="169920"/>
            <a:ext cx="3397320" cy="884160"/>
          </a:xfrm>
          <a:custGeom>
            <a:avLst/>
            <a:gdLst>
              <a:gd name="textAreaLeft" fmla="*/ 0 w 3397320"/>
              <a:gd name="textAreaRight" fmla="*/ 3397680 w 339732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our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4"/>
          <p:cNvSpPr/>
          <p:nvPr/>
        </p:nvSpPr>
        <p:spPr>
          <a:xfrm>
            <a:off x="219240" y="1209600"/>
            <a:ext cx="1938240" cy="781200"/>
          </a:xfrm>
          <a:prstGeom prst="flowChartMagneticTape">
            <a:avLst/>
          </a:prstGeom>
          <a:solidFill>
            <a:srgbClr val="ccffcc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19240" y="1209600"/>
            <a:ext cx="840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fter-school classes are good for th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's future. They can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get into good schools and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of these classes help children to feel good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classes help children to learn important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ot taught at school. These skills may actually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rel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eople learn better at a younger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have more time than adults, so they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arn as much as they can before they get too bus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arn new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2"/>
          <p:cNvSpPr/>
          <p:nvPr/>
        </p:nvSpPr>
        <p:spPr>
          <a:xfrm>
            <a:off x="351000" y="274680"/>
            <a:ext cx="2458800" cy="779400"/>
          </a:xfrm>
          <a:prstGeom prst="flowChartPunchedTape">
            <a:avLst/>
          </a:prstGeom>
          <a:solidFill>
            <a:srgbClr val="ffccff"/>
          </a:solidFill>
          <a:ln w="507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609480" y="1419120"/>
            <a:ext cx="8107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fter-school classes take away the children's f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ime. Children have no time to relax and just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may be so busy they have no tim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sorb and apply what they have been ta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children are made to learn skills they ar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nterest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se classes cause the children to be str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se classes take away the children's child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10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10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1000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1209600" y="222120"/>
            <a:ext cx="6688080" cy="2068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 a letter to the magazin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ress your opinions on after-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asses for children. Use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ressions to help you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493560" y="2762280"/>
            <a:ext cx="7553520" cy="521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irst, say if you agree or dis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6"/>
          <p:cNvSpPr/>
          <p:nvPr/>
        </p:nvSpPr>
        <p:spPr>
          <a:xfrm>
            <a:off x="493560" y="3686040"/>
            <a:ext cx="75535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Dear …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 don’t really agree with … becaus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lthough some parents are right about … , I think children sh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2"/>
          <p:cNvSpPr/>
          <p:nvPr/>
        </p:nvSpPr>
        <p:spPr>
          <a:xfrm>
            <a:off x="768240" y="6660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0"/>
          <p:cNvSpPr/>
          <p:nvPr/>
        </p:nvSpPr>
        <p:spPr>
          <a:xfrm>
            <a:off x="957240" y="1409760"/>
            <a:ext cx="4494240" cy="521280"/>
          </a:xfrm>
          <a:prstGeom prst="rect">
            <a:avLst/>
          </a:prstGeom>
          <a:solidFill>
            <a:srgbClr val="ff99cc"/>
          </a:solidFill>
          <a:ln w="3816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n,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3"/>
          <p:cNvSpPr/>
          <p:nvPr/>
        </p:nvSpPr>
        <p:spPr>
          <a:xfrm>
            <a:off x="768240" y="2265480"/>
            <a:ext cx="763272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n my opinion, it is important for children / parents 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 believe it is better if children / parents … so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erhaps children / parents should / c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f children … , they will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矩形 6" descr=""/>
          <p:cNvPicPr/>
          <p:nvPr/>
        </p:nvPicPr>
        <p:blipFill>
          <a:blip r:embed="rId1"/>
          <a:stretch/>
        </p:blipFill>
        <p:spPr>
          <a:xfrm>
            <a:off x="2714760" y="392040"/>
            <a:ext cx="3381120" cy="8589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487440" y="1250640"/>
            <a:ext cx="6394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宋体"/>
                <a:ea typeface="宋体"/>
              </a:rPr>
              <a:t>用所给动词的正确形式完成短文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488880" y="171468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ar Liv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some problems, I need you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y friends planned a party last Sunday. But they _____________ ( not invite ) me. I want 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call ) up John, but I know I shouldn’t _________ ( argue ) with him. My friend Sandy always  ________ ( wear ) the same clothes as I do. I don’t know what to do. Could you ________ ( help ) me? Thanks a 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s 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en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487440" y="2954160"/>
            <a:ext cx="25542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didn’t inv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365880" y="2954160"/>
            <a:ext cx="1947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o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6562800" y="3430440"/>
            <a:ext cx="17510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r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881760" y="3649680"/>
            <a:ext cx="175104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041640" y="4673520"/>
            <a:ext cx="17524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533600" y="4428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u=2088708571,4226116252&amp;fm=23&amp;gp=0"/>
          <p:cNvPicPr/>
          <p:nvPr/>
        </p:nvPicPr>
        <p:blipFill>
          <a:blip r:embed="rId1"/>
          <a:stretch/>
        </p:blipFill>
        <p:spPr>
          <a:xfrm>
            <a:off x="311040" y="2070000"/>
            <a:ext cx="4000680" cy="24591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4"/>
          <p:cNvSpPr/>
          <p:nvPr/>
        </p:nvSpPr>
        <p:spPr>
          <a:xfrm>
            <a:off x="4657680" y="2954160"/>
            <a:ext cx="33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study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u=1867573703,3949115100&amp;fm=23&amp;gp=0"/>
          <p:cNvPicPr/>
          <p:nvPr/>
        </p:nvPicPr>
        <p:blipFill>
          <a:blip r:embed="rId2"/>
          <a:stretch/>
        </p:blipFill>
        <p:spPr>
          <a:xfrm>
            <a:off x="4494240" y="3873600"/>
            <a:ext cx="4340160" cy="28526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6"/>
          <p:cNvSpPr/>
          <p:nvPr/>
        </p:nvSpPr>
        <p:spPr>
          <a:xfrm>
            <a:off x="711360" y="5137200"/>
            <a:ext cx="33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study 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273320" y="4176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u=3186043011,2873490654&amp;fm=23&amp;gp=0"/>
          <p:cNvPicPr/>
          <p:nvPr/>
        </p:nvPicPr>
        <p:blipFill>
          <a:blip r:embed="rId1"/>
          <a:srcRect l="0" t="0" r="0" b="8201"/>
          <a:stretch/>
        </p:blipFill>
        <p:spPr>
          <a:xfrm>
            <a:off x="1273320" y="2468520"/>
            <a:ext cx="3003480" cy="36781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4"/>
          <p:cNvSpPr/>
          <p:nvPr/>
        </p:nvSpPr>
        <p:spPr>
          <a:xfrm>
            <a:off x="5005440" y="3124080"/>
            <a:ext cx="31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have pi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273320" y="4176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u=2316084764,84308602&amp;fm=23&amp;gp=0"/>
          <p:cNvPicPr/>
          <p:nvPr/>
        </p:nvPicPr>
        <p:blipFill>
          <a:blip r:embed="rId1"/>
          <a:srcRect l="0" t="0" r="0" b="10620"/>
          <a:stretch/>
        </p:blipFill>
        <p:spPr>
          <a:xfrm>
            <a:off x="257040" y="2044800"/>
            <a:ext cx="4321440" cy="25747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4770360" y="2563920"/>
            <a:ext cx="367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watch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u=3822969275,2602646123&amp;fm=23&amp;gp=0"/>
          <p:cNvPicPr/>
          <p:nvPr/>
        </p:nvPicPr>
        <p:blipFill>
          <a:blip r:embed="rId2"/>
          <a:stretch/>
        </p:blipFill>
        <p:spPr>
          <a:xfrm>
            <a:off x="4578480" y="3727440"/>
            <a:ext cx="4354560" cy="29876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6"/>
          <p:cNvSpPr/>
          <p:nvPr/>
        </p:nvSpPr>
        <p:spPr>
          <a:xfrm>
            <a:off x="698400" y="5032440"/>
            <a:ext cx="3395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play sports or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870120" y="272880"/>
            <a:ext cx="7769160" cy="1692360"/>
          </a:xfrm>
          <a:prstGeom prst="flowChartAlternateProcess">
            <a:avLst/>
          </a:prstGeom>
          <a:solidFill>
            <a:srgbClr val="ffff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ok at the words in bol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 you guess their meanings? T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tch them with the meaning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870120" y="2290680"/>
            <a:ext cx="7769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Keeps on happening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Physical exercise and practice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Worries about things at home, school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k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Usual or common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5021280" y="2290680"/>
            <a:ext cx="22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338120" y="3527280"/>
            <a:ext cx="22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2314440" y="4724280"/>
            <a:ext cx="22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4435560" y="5241960"/>
            <a:ext cx="22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y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>
            <a:off x="765000" y="182520"/>
            <a:ext cx="1159200" cy="988920"/>
          </a:xfrm>
          <a:custGeom>
            <a:avLst/>
            <a:gdLst>
              <a:gd name="textAreaLeft" fmla="*/ 264600 w 1159200"/>
              <a:gd name="textAreaRight" fmla="*/ 894600 w 1159200"/>
              <a:gd name="textAreaTop" fmla="*/ 225720 h 988920"/>
              <a:gd name="textAreaBottom" fmla="*/ 763200 h 98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66800" y="1171440"/>
            <a:ext cx="75596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ry to be the best or the first to fi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Getting better or bigger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 Looking for differences and simila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etween things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394080" y="231768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495760" y="3238560"/>
            <a:ext cx="31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967200" y="507204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om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/>
          <p:cNvSpPr/>
          <p:nvPr/>
        </p:nvSpPr>
        <p:spPr>
          <a:xfrm>
            <a:off x="1649520" y="176040"/>
            <a:ext cx="6297480" cy="1197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Read the article agai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swer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649520" y="1562040"/>
            <a:ext cx="670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1.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Does Cathy Taylor think it’s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important for kids to join after-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school activities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2. </a:t>
            </a: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Does Linda Miller agree wit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Cathy? What’s her opinion?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3.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Does Dr. Green agree with Cathy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or Linda? What does she say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2"/>
          <p:cNvSpPr/>
          <p:nvPr/>
        </p:nvSpPr>
        <p:spPr>
          <a:xfrm>
            <a:off x="609480" y="60012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994040" y="325440"/>
            <a:ext cx="614196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1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Does Cathy Taylor think it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mportant for kids to join af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chool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es, she does. She thinks th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fter- school activities are g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or the children's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2. </a:t>
            </a: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Does Linda Miller agre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Cathy? What’s her opi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o, she doesn't. She think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eople shouldn't push the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hildren so hard, and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ould let their kids b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1000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6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"/>
          <p:cNvSpPr/>
          <p:nvPr/>
        </p:nvSpPr>
        <p:spPr>
          <a:xfrm>
            <a:off x="609480" y="60012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1768320" y="390600"/>
            <a:ext cx="6585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Q3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Does Dr. Green agre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Cathy or Linda? What d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he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. Green agrees with Li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e says that after-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ctivities can cause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ress for children. She 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ys that children should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ime to relax and think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mselves, and that it'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mportant to have hap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than successfu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1:32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